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3045-6A47-4A90-AC61-3DDA9F552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4499-AEF3-4FF7-B5FC-A9866138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12C-596C-4D69-BBC9-CAC75895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AFB-A9E9-4952-A99F-C190DECC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21A-FBC1-46D5-B095-E16864C2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959-AF6B-400B-B65C-C71BC111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79F-BC55-4884-A729-6AEE86D4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C4B-30A1-485B-B5BE-4FD30B19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262-E21E-4816-A03C-8852C694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845-84DD-402E-BD65-11D700B3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A66-8A00-4534-A3E8-91A25123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CEE-E61C-48E8-A687-5FCA81D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A6A-3156-4BA9-85A2-BE5371AF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0F3-B23A-4703-AA73-0157A4B4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417C-4E55-4323-B6D5-B3B84DE2C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(Intro to Biology), Part 3 Notes – The 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owoct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00072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arkthoughtnov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milingeinstein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0007342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1: Scientists Ask Questions/Stat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base their questions up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fter information has been collect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ed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 is this an important step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1: Scientists Ask Questions/ Stat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questions can we ask about the behavior that we observed with the Japanese Macaq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japmac2"/>
          <p:cNvPicPr/>
          <p:nvPr/>
        </p:nvPicPr>
        <p:blipFill>
          <a:blip r:embed="rId1"/>
          <a:stretch/>
        </p:blipFill>
        <p:spPr>
          <a:xfrm>
            <a:off x="1371600" y="2496960"/>
            <a:ext cx="647712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pothesis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able explanation of a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ory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tested explanation that unifies a broad range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2: Scientists Form a 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t’s form a hypothesis about why our Japanese Macaques are exhibiting thi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ke sure that this is a testable hypothe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riment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vestigation of a phenomenon in a controlled setting to test a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t’s look at a new experi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tist observes that grass grows taller in the part of his lawn right next to the sprink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ass is given extra water, then it will grow tal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 organized way of using evidence to learn about the natur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body of knowledge scientists have built up over the years using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rol Group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used for compar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ot of gras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xtra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rimental Group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roup exposed to the variable that is being tes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ot of gras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xtra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riable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actor that can affect the outcome of an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light, disease, etc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ependent Variable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ipulated variable; what is changed by the experim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mount of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ent Variable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riable that is measured; the resu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nge in height of 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Desig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ant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/variable that doesn’t change during an experi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some constants in our grass experimen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grass-growth-at-10-days"/>
          <p:cNvPicPr/>
          <p:nvPr/>
        </p:nvPicPr>
        <p:blipFill>
          <a:blip r:embed="rId1"/>
          <a:stretch/>
        </p:blipFill>
        <p:spPr>
          <a:xfrm>
            <a:off x="2286000" y="33526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#4: Perform an Experiment/Gather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a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ined from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ntitative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erical data (measurements of time, temperature, length, mass, area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 experiment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litative Data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s of what our senses det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 experiment 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5: Analyze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hat scientists 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y hypothesis been supported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ore data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ifferent procedures needed?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work i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alyze dat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good tools for data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graphs"/>
          <p:cNvPicPr/>
          <p:nvPr/>
        </p:nvPicPr>
        <p:blipFill>
          <a:blip r:embed="rId1"/>
          <a:stretch/>
        </p:blipFill>
        <p:spPr>
          <a:xfrm>
            <a:off x="4952880" y="160020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Report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report their conclusions and findings in scientific journals (peer-reviewed journ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examples can you think of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cover_nature"/>
          <p:cNvPicPr/>
          <p:nvPr/>
        </p:nvPicPr>
        <p:blipFill>
          <a:blip r:embed="rId1"/>
          <a:stretch/>
        </p:blipFill>
        <p:spPr>
          <a:xfrm>
            <a:off x="0" y="2819520"/>
            <a:ext cx="2895480" cy="4038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ages"/>
          <p:cNvPicPr/>
          <p:nvPr/>
        </p:nvPicPr>
        <p:blipFill>
          <a:blip r:embed="rId2"/>
          <a:stretch/>
        </p:blipFill>
        <p:spPr>
          <a:xfrm>
            <a:off x="3048120" y="2819520"/>
            <a:ext cx="2985840" cy="403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theLancetHealth"/>
          <p:cNvPicPr/>
          <p:nvPr/>
        </p:nvPicPr>
        <p:blipFill>
          <a:blip r:embed="rId3"/>
          <a:stretch/>
        </p:blipFill>
        <p:spPr>
          <a:xfrm>
            <a:off x="6138720" y="2819520"/>
            <a:ext cx="3005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Report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ma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fi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r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ic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further research is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for fun!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ol behaviors exhibited by Japanese Maca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Japanese+Macaque+Monkeys+Relax+Hot+Springs+JLoDCv8qWdWl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91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Japanese+Macaques+Bathe+Hot+Springs+N0VHA8PxkQJl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build snowballs for fu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6a00d8341c630a53ef012876d15483970c-600wi"/>
          <p:cNvPicPr/>
          <p:nvPr/>
        </p:nvPicPr>
        <p:blipFill>
          <a:blip r:embed="rId1"/>
          <a:stretch/>
        </p:blipFill>
        <p:spPr>
          <a:xfrm>
            <a:off x="0" y="1371600"/>
            <a:ext cx="5486400" cy="42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1246239"/>
          <p:cNvPicPr/>
          <p:nvPr/>
        </p:nvPicPr>
        <p:blipFill>
          <a:blip r:embed="rId2"/>
          <a:stretch/>
        </p:blipFill>
        <p:spPr>
          <a:xfrm>
            <a:off x="5486400" y="1676520"/>
            <a:ext cx="36576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cienc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t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ccept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pe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er review =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y which the procedures used during an experiment and the results are evaluated by other scienti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s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 (Meter, gram, liter,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is Always Chang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from Astr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at HOT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414680" y="1371600"/>
            <a:ext cx="43833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 and his heliocentr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41164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657600" cy="2751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51160" y="53341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Geocentr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436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96000" y="57913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Heliocentr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and Human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science to inform decisions about health care, environmental poli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science’s major discoveries have been considered controversial b/c they call into question certain belief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eth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loning, stem cell research,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2714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make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6248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observations can you make about this image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399635aa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vs. In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servation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rect method of gathering information in an orderly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information from the five s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erence =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at you know with what you have learned and beginning the process of making logical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t’s practice making observations with some new imag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airy-hea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7:31:37Z</dcterms:created>
  <dc:creator>Beth</dc:creator>
  <dc:description/>
  <dc:language>en-US</dc:language>
  <cp:lastModifiedBy>Windows User</cp:lastModifiedBy>
  <dcterms:modified xsi:type="dcterms:W3CDTF">2015-09-09T16:45:52Z</dcterms:modified>
  <cp:revision>19</cp:revision>
  <dc:subject/>
  <dc:title>The Characteristics of Life</dc:title>
</cp:coreProperties>
</file>